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097-B65A-4D11-97E9-1FDD93B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CF7E-B22A-4948-9322-E082390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7A6-1BFE-4991-BB76-07FE1D92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94B-2E11-4882-933F-73870DAF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622A-A28E-467E-AF40-E93FDB9E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4D8F-6BA1-4BE0-A7F1-E427ECCE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CE07-63D4-4F36-AD2D-FE8D8292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750D-0373-4CAA-A90F-F0887B85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4234-AFD3-46C5-9562-32EB53E9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0EF2-CB1C-441A-9D64-932F0D2A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0E4-F9F2-4913-A701-85AF0A7A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8989-0F77-4D43-9D68-E268BC91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A212-6972-4393-900F-B885D4CD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3162-DE3C-475D-9253-820B22CA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C70F-AC74-4E83-8084-042E684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44F9-19A3-457C-881C-AC475CBE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D12D-67B7-4B4A-8E44-D3D5A97C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411-16F7-4E0E-9376-A9F8B22C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001-E3EB-4407-9C61-3EE8659A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02B3-8006-416A-9168-5F800BF1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2E4D-2A97-4E83-940A-E2764986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4DA-FA22-430E-ACC0-AB6F237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1DB-5B77-4D67-B860-6A4E4EB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D2B-E648-439E-A00D-EF40E176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B5C0-6419-4D75-9A8D-F0CAE12A65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18A7-93D5-465A-B865-5E24FE1A03D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DB0385C-FDC4-46BD-8873-40D6D75942F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71304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υ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ου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A9DC398-45DB-4111-AF39-1901F4DB6DC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8FFA273-6564-4A06-9950-AD54C3EE2F5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7D6A095-1A5D-448E-A509-A817355FBF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8E11A2A-386C-4AE3-92A0-854053A393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2B538B1E-95E4-4712-AA89-E7CDEFA7BF4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4086D8B-5BE6-4287-8244-2B1166E398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C202CB5-1B18-4EA3-9EEB-2097C72CE63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554200"/>
            <a:ext cx="90486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sun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μετα τεκνων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E8BF1696-4416-4396-AA22-041BB5E8F20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7A521FF-11F6-4378-980D-E629D2491CA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AB9B078-B511-4139-8341-59C0B6AC42F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F91E2FD-C97A-49B1-8945-9A1586C0CA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6E163FD-B94F-4C63-9688-EA781CAF74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no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316BAA3-DCC6-4F38-BF98-C5715379B01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A41A12CC-D8E5-4E65-AE0A-BC3ACF372D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9660F869-24B4-4A8E-8E40-90FB4CF59CC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8B51F114-C0EC-4728-B4F9-810FFA474C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4F500AA-D00C-4EA2-B32E-A440EB9565F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54ACE6D-579F-45F1-A04B-2DF2BC45ADF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3C090A1-9324-42CA-835A-01917F8014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A6A0D73-D9E2-485C-A0B2-C2560401BE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8-09-07T14:24:04Z</dcterms:modified>
  <cp:revision>47</cp:revision>
  <dc:subject/>
  <dc:title>Slide 1</dc:title>
</cp:coreProperties>
</file>